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applause.wav" ContentType="audio/x-wav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9B1-8980-4BB6-9089-17713BFC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70A-BC3F-43DF-8C15-C53BB935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FA8-30BB-40AD-815A-F58EBA18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5FD-75FC-45C3-9D1B-88EC9A7A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D367-6C6D-41FA-847D-2A21B538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85F0-5C4A-420A-AC1A-2D9AD136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06F7-CB54-4840-A4C9-4CFB0EEB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60CB-8D5B-4201-97C5-938E2D5C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DEF9-9108-4730-A4F2-5BF59EC0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330D-2D92-4870-8171-5E1DC9EE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2D30-1608-4059-A4CA-73E755BE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C89-E702-4C8E-B371-BF4DCC9C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C199-7452-45F6-A6D5-522047A1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3476-5F77-473A-B69B-4F5BD7F5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A817-B637-4225-8C06-DB7517DD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6F51-9E4C-44A9-9B2F-EDFC7920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0D4C-BB6C-486C-9C24-C199910C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465-149D-46E4-AF5D-77327583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5BD-C311-469A-9E9D-0CED338F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523-F168-4982-AAD5-78DE85F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47A-C374-454E-99F6-17F288EB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BFE-162B-492A-AD06-C341FEB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DBE-92A2-4845-A61B-7384F15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493-7C3A-4652-8AAF-72E78DB3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9BFB-E9CA-49E4-9E24-4C6F5B3DB9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33F5-9F49-4079-AA1B-853A5D2D63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5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8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33"/>
                </a:solidFill>
                <a:latin typeface="Garamond"/>
              </a:rPr>
              <a:t>Insects or Spiders?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cture qu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ebecca Prun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934320" y="5970600"/>
            <a:ext cx="177156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86600" y="5791320"/>
            <a:ext cx="1857240" cy="779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66960" y="2241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9599" t="19124" r="3200" b="30598"/>
          <a:stretch/>
        </p:blipFill>
        <p:spPr>
          <a:xfrm>
            <a:off x="1001880" y="2457360"/>
            <a:ext cx="4251240" cy="205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5791320"/>
            <a:ext cx="1770120" cy="741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66960" y="2241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405320" cy="5181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86600" y="5791320"/>
            <a:ext cx="1722600" cy="722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66960" y="2241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71720" y="1219320"/>
            <a:ext cx="4006800" cy="4074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34320" y="5791320"/>
            <a:ext cx="1974600" cy="826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What are they?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kind of bugs are in the build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 at the pictures and tell us if they are insects or spid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end, tell us which man we need to hire to get rid of the b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86600" y="5791320"/>
            <a:ext cx="1752480" cy="734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66960" y="2241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o we want the insect man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or the spider man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24280" y="52578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Spid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397640" y="4879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46280" y="5294160"/>
            <a:ext cx="329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18148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se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505320" y="5257800"/>
            <a:ext cx="1119240" cy="1119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76520" y="44956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PARTY 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03480" y="23223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71880" y="22096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PARTY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4880" y="49356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9960" y="341280"/>
            <a:ext cx="306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762120"/>
            <a:ext cx="4114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PARTY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34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2920" y="5791320"/>
            <a:ext cx="1771560" cy="74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05320" y="2209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876920" cy="324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2920" y="5791320"/>
            <a:ext cx="1751040" cy="73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66960" y="2241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902120" cy="3273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9:47:01Z</dcterms:created>
  <dc:creator>rpruneda</dc:creator>
  <dc:description/>
  <dc:language>en-US</dc:language>
  <cp:lastModifiedBy>rpruneda</cp:lastModifiedBy>
  <dcterms:modified xsi:type="dcterms:W3CDTF">2011-04-19T16:54:06Z</dcterms:modified>
  <cp:revision>46</cp:revision>
  <dc:subject/>
  <dc:title>Is this a spider or an insect?</dc:title>
</cp:coreProperties>
</file>